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01BE-EBC0-4D8B-ACA0-0A423DA1C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750D-9F05-43FD-83B0-81804432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97E6-B963-4FF4-8557-247682159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755D-AF23-4357-90AB-52CEFDA7F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15C7-DB9F-424E-A957-EAEA920A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7712-8E30-4611-AADA-F13D15E6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0177-D6FB-40B8-9962-C166350D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6E73-F8D5-4FB2-BFF2-6CB339FD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39CD-00D3-4C77-AA22-0D6B2BC5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9D5F-513D-4F53-BB00-E8195C65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DEC6-0423-4C53-9841-01BA7BF2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3D73-D38B-4DBE-A262-609FA3EC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8890-7968-4BD5-BA38-E8FAC5901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0079591" descr=""/>
          <p:cNvPicPr/>
          <p:nvPr/>
        </p:nvPicPr>
        <p:blipFill>
          <a:blip r:embed="rId1"/>
          <a:stretch/>
        </p:blipFill>
        <p:spPr>
          <a:xfrm>
            <a:off x="-1679400" y="0"/>
            <a:ext cx="6403680" cy="7467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191120" y="0"/>
            <a:ext cx="4952880" cy="7405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من صمتِ الكونِ أدعو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من عمق وجودي أشدو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أُسكُن في قلبي وروحي</a:t>
            </a:r>
            <a:r>
              <a:rPr b="1" lang="ar-SA" sz="3200" spc="-1" strike="noStrike">
                <a:solidFill>
                  <a:srgbClr val="6600cc"/>
                </a:solidFill>
                <a:latin typeface="Simplified Arabic"/>
                <a:ea typeface="Times New Roman (Arabic)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واملأني سلاما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إقبلني طِفلا في سما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واملأ عينيَّ بِسَنا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cc"/>
                </a:solidFill>
                <a:latin typeface="Simplified Arabic"/>
                <a:cs typeface="Times New Roman (Arabic)"/>
              </a:rPr>
              <a:t>لا أستحقُّ الغُفرانَ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cc"/>
                </a:solidFill>
                <a:latin typeface="Simplified Arabic"/>
                <a:cs typeface="Times New Roman (Arabic)"/>
              </a:rPr>
              <a:t>لكن أرجوك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cc"/>
                </a:solidFill>
                <a:latin typeface="Simplified Arabic"/>
                <a:cs typeface="Times New Roman (Arabic)"/>
              </a:rPr>
              <a:t>من عَرشِكَ تحنو عل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cc"/>
                </a:solidFill>
                <a:latin typeface="Simplified Arabic"/>
                <a:cs typeface="Times New Roman (Arabic)"/>
              </a:rPr>
              <a:t>نفسي تمحو آلامي ويأس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cc"/>
                </a:solidFill>
                <a:latin typeface="Simplified Arabic"/>
                <a:cs typeface="Times New Roman (Arabic)"/>
              </a:rPr>
              <a:t>تملأني حبًّا يا ربي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cc"/>
                </a:solidFill>
                <a:latin typeface="Simplified Arabic"/>
                <a:cs typeface="Times New Roman (Arabic)"/>
              </a:rPr>
              <a:t>يكفيني سلام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0079653" descr=""/>
          <p:cNvPicPr/>
          <p:nvPr/>
        </p:nvPicPr>
        <p:blipFill>
          <a:blip r:embed="rId1"/>
          <a:stretch/>
        </p:blipFill>
        <p:spPr>
          <a:xfrm>
            <a:off x="0" y="0"/>
            <a:ext cx="61880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91320" y="152280"/>
            <a:ext cx="3155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أنا كلي إيما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لكَ فيَّ وجو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ولِعرشِ النِّعَمِ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ولقُدسِ الأقداسِ أتو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5908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152280" y="2362320"/>
            <a:ext cx="92962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آمنتَ دوماً بكياني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بِرُغمِ قلَّةِ إيماني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وبِعَينِ الآبِ ترعاني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َغمُرُني حُبَّك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باركتَ عمري وآمالي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أشْبَعتَ خيراً أيامي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غفرتَ كلَّ آثامي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فسِرتُ مُلكَك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إليك أرفَعُ تهاليلي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كلَّ أفراحي وتسابيحي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تُفرِحُ قلْبَكَ أناشيدي وأُعلِنُ مَجدَك</a:t>
            </a:r>
            <a:r>
              <a:rPr b="0" lang="ar-SA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10:55:16Z</dcterms:created>
  <dc:creator>USER</dc:creator>
  <dc:description/>
  <dc:language>en-US</dc:language>
  <cp:lastModifiedBy>USER</cp:lastModifiedBy>
  <dcterms:modified xsi:type="dcterms:W3CDTF">2002-11-13T14:21:55Z</dcterms:modified>
  <cp:revision>1</cp:revision>
  <dc:subject/>
  <dc:title>PowerPoint Presentation</dc:title>
</cp:coreProperties>
</file>